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15B-C06F-429B-A69B-9C037EEB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B5E-0833-4BC0-93FF-F4AA6650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C58-91C2-4FB1-9538-BF781814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326-1D4C-493C-896E-91D574EA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117-AAF2-4D27-8BC3-942E56C4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078-92BE-46CC-8141-9C5DBC59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A36-6B8E-4892-B680-0530FA4D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EF8-D695-44A2-9EE4-86F1716A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2EE-0449-4A1B-9D20-20D5A074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826-3EB1-4DD6-9073-7E126F5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EBA-60AC-47B8-869A-91EB3697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050-5116-4041-B7C8-65173A4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E3C6-A61B-46D7-A4A2-3EE26D556C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:/Documents%20and%20Settings/Administrator/&#26700;&#38754;/0086.mp3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8160" y="2062080"/>
            <a:ext cx="5688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学习抗震救灾精神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做有道德文明的人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0600" y="1800360"/>
            <a:ext cx="4762800" cy="3257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589752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的孩子还在那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537040" y="0"/>
            <a:ext cx="60696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手间，传递的是爱的力量，生的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17080" y="260280"/>
            <a:ext cx="4586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30064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张关蓉在擦拭丈夫谭千秋的遗体。在地震发生的一瞬间，德阳市东汽中学教师谭千秋双臂张开趴在课桌上，身下死死地护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学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学生都获救了，谭老师却不幸遇难。这种伟大的牺牲精神，感天动地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558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5589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灾后的人们需要援助，也需要外界了解他们的苦难。那里的生命与死亡都将成为历史的一笔，令我们痛苦，令我们焦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黑色的日子，所有的孩子，所有的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的中国人，都处在强烈的震惊和悲伤当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09300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数鲜活的生命，顷刻间就这样离我们而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与死，真只是一步之遥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39840" y="609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8172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劫后母女间的重逢，必将“哭”尽甘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950080"/>
            <a:ext cx="91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可以破，石可以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人们抗震自救的信心不会被打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38172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，国际护士节。天使在人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80536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又是你们让我们泪流满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向新时期最可爱的人致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26560" y="4724280"/>
            <a:ext cx="83170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cc00"/>
                </a:solidFill>
                <a:latin typeface="Arial"/>
              </a:rPr>
              <a:t>用我们的爱    给你们力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87280" y="1557360"/>
            <a:ext cx="7129800" cy="21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众志成城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62085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22640" y="437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80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5164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0086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87700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这些在雨夜中、在滚石间、在余震中进发的士兵致敬，向这些在灾区的废墟间挖掘和救生的士兵致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09912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生死的边缘啊，在黑暗的瓦砾之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看到了这些红色的救援队的臂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013880" y="0"/>
            <a:ext cx="213012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伸出手来，孩子，这只曾经饱满圆润的手，为了寻找回家的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得如此憔悴，如此疲惫。你找到家了，孩子，我们都是你的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9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950080"/>
            <a:ext cx="91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看不见你的面孔，我只看到破碎的衣衫和皮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还看到父亲般安全的怀抱里不再有破碎的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468760"/>
            <a:ext cx="9144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这些肉乎乎的小客人长大成为栋梁和主人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一定会回首追寻地震中的洗礼，感念帮助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全非凡洗礼的亲人们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530064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前周总理亲赴邢台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后温总理亲赴汶川！两任总理，一脉真情！ 向总理致敬！我们是一家人！天佑中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64200" y="5883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30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308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30864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纽约华人在为所有受难的人们祈福！大爱在人间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76560" y="631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30864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震后的县城，几乎已是一片废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房子裂了、塌了，我们还可以再修。只要人在，我们就一定能够渡过难关，战胜这场重大自然灾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44500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没有选择是否接受灾害的权利，但是我们可以选择对待灾难的态度。灾难发生了，我们要相信党和政府、相信人民群众，相信最终能战胜灾难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6610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悲痛的泪流，已注入我们的内心。这是无须渲染的灾情，更是无须压抑的哭泣。今天起，狂欢非道德，漠然不人性。今天起，号哭不是软弱，抚胸难掩悲怆。今天起，前仆之处后继，起死而后回生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6610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不能直面处直面，于不可承受中承受。越是命悬一线，越不轻言放弃。越是绝地生还，越拥有生命尊严。请你一定要挺住，一定要坚信，一定要得救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95360" y="1751040"/>
            <a:ext cx="4553280" cy="335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8788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孩子，亲爱的孩子，试卷刚刚铺开你就停止了书写，生命刚刚绽放就划上了句号。你的小手还没有洗去泥水，指甲就已泡白，你还想握住亲人的手、握住美好的生命吧，会的，孩子，天堂里仍然有明亮的课堂，我们仍然会在梦里相遇相握相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01:09Z</dcterms:modified>
  <cp:revision>5</cp:revision>
  <dc:subject>主题班会课件(分28大类): http://shop62905894.taobao.com</dc:subject>
  <dc:title>主题班会课件(分28大类): http://shop62905894.taobao.com</dc:title>
</cp:coreProperties>
</file>